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4.jpeg" ContentType="image/jpeg"/>
  <Override PartName="/ppt/media/image3.wmf" ContentType="image/x-wmf"/>
  <Override PartName="/ppt/media/image15.jpeg" ContentType="image/jpeg"/>
  <Override PartName="/ppt/media/image26.wmf" ContentType="image/x-wmf"/>
  <Override PartName="/ppt/media/image28.jpeg" ContentType="image/jpeg"/>
  <Override PartName="/ppt/media/image24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17.gif" ContentType="image/gif"/>
  <Override PartName="/ppt/media/image14.jpeg" ContentType="image/jpeg"/>
  <Override PartName="/ppt/media/image16.wmf" ContentType="image/x-wmf"/>
  <Override PartName="/ppt/media/image13.jpeg" ContentType="image/jpeg"/>
  <Override PartName="/ppt/media/image1.jpeg" ContentType="image/jpeg"/>
  <Override PartName="/ppt/media/image22.jpeg" ContentType="image/jpeg"/>
  <Override PartName="/ppt/media/image2.wmf" ContentType="image/x-wmf"/>
  <Override PartName="/ppt/media/image25.wmf" ContentType="image/x-wmf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1BB-4C14-4B52-ACB4-A53D27E7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6D4-1D17-4959-A306-C7468CA6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670-D5F5-4EF8-8996-34DEA5BB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C99-3437-41A9-82FE-25B5ABC8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79C5-1549-49FF-9388-239EFEC8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C82C-AA65-46BC-80C0-5FAE7950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B522-EB1C-4756-B074-0563BED3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4D12-F7DA-4509-92FF-37511E1B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A8F6-6EF4-42EB-8006-3B2156C1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ECB9-C573-42A7-A49B-2FA88611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23C3-04DE-47E9-91B1-D036EC88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E30-F793-4FC2-A06B-05FB041A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A1C2-3745-4E69-ABD5-17CF5005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2EA8-B757-4237-BA04-F3AB6874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B44A-595B-456E-82E7-E7E98678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4A40-3B8B-4E93-861F-69D1D53D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404B-BBC8-4019-9A40-2285EC89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26A-382F-4303-A17B-5C395161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450-1B33-4F97-9F3D-37A0A234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06D-0EEE-43E8-AA44-A992338F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071-C43A-4ECB-AEDA-BDF15391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A5E-4742-4D67-B250-CECBBC6A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FAD-0926-4C54-AAFB-DE310890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4FB-E6A9-439B-A041-18FE35E3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7335-3C66-44DB-9052-49AE05D5B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F268-7AAC-4208-856A-B6BCCD32AA6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allerytungsten.com/images/sunrise-2.jpg&amp;imgrefurl=http://www.gallerytungsten.com/archives/2005_10.php&amp;h=585&amp;w=585&amp;sz=274&amp;hl=en&amp;start=1&amp;tbnid=6P8ZsVIcz6lv-M:&amp;tbnh=135&amp;tbnw=135&amp;prev=/images%3Fq%3Dsunrise%26gbv%3D2%26svnum%3D10%26hl%3Den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pyemporium.com/wireless_video_systems_covert/wireless_video_systems_covert_wall_clock_owc_0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pyemporium.com/wireless_video_systems_covert/wireless_video_systems_covert_wall_clock_owc_0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pa.gov/" TargetMode="Externa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irstscience.com/home/images/legacygallery/anatomy2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msara.amedd.army.mil/features/images/anatomy.gif" TargetMode="External"/><Relationship Id="rId2" Type="http://schemas.openxmlformats.org/officeDocument/2006/relationships/image" Target="../media/image11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ensus.gov/" TargetMode="External"/><Relationship Id="rId2" Type="http://schemas.openxmlformats.org/officeDocument/2006/relationships/hyperlink" Target="http://greatinca.net/images/blog/Ankle_Anatomy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reatinca.net/images/blog/Ankle_Anatomy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greatinca.net/images/blog/Ankle_Anatomy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books/en/3/30/Anatomy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mathiasbynens.be/images/anatomy-lecture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v.ns.ca/ehs/medical_communications/images/comm_anatomy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panaonline.org/" TargetMode="Externa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vfekete@state.pa.us" TargetMode="External"/><Relationship Id="rId2" Type="http://schemas.openxmlformats.org/officeDocument/2006/relationships/hyperlink" Target="http://www.pde.state.pa.us/food_nutrition/site/default.asp" TargetMode="Externa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c-hjobe@state.pa.us" TargetMode="External"/><Relationship Id="rId2" Type="http://schemas.openxmlformats.org/officeDocument/2006/relationships/hyperlink" Target="http://www.edportal.ed.state.pa.us/portal/server.pt?open=512&amp;objID=475&amp;&amp;level=1&amp;css=L1&amp;mode=2&amp;in_hi_userid=2&amp;cached=true" TargetMode="External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newpa.com/default.aspx?id=15" TargetMode="External"/><Relationship Id="rId2" Type="http://schemas.openxmlformats.org/officeDocument/2006/relationships/hyperlink" Target="http://images.google.com/imgres?imgurl=http://americancivilwar.com/statepic/pa/pennsylvania_flag.gif&amp;imgrefurl=http://americancivilwar.com/statepic/pa.html&amp;h=256&amp;w=350&amp;sz=20&amp;hl=en&amp;start=28&amp;tbnid=aHj7hLpu4Q_LnM:&amp;tbnh=88&amp;tbnw=120&amp;prev=/images%3Fq%3Dpennsylvania%26start%3D20%26gbv%3D2%26ndsp%3D20%26svnum%3D10%26hl%3Den%26sa%3DN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pde.state.pa.us/ed_tech/cwp/view.asp?Q=110337&amp;A=169" TargetMode="External"/><Relationship Id="rId2" Type="http://schemas.openxmlformats.org/officeDocument/2006/relationships/hyperlink" Target="http://www.newpa.com/broadband" TargetMode="External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jtschell@comcast.net" TargetMode="External"/><Relationship Id="rId2" Type="http://schemas.openxmlformats.org/officeDocument/2006/relationships/hyperlink" Target="http://www.e-ratepa.org/" TargetMode="External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etechplanner.org/" TargetMode="External"/><Relationship Id="rId2" Type="http://schemas.openxmlformats.org/officeDocument/2006/relationships/hyperlink" Target="http://www.edportal.ed.state.pa.us/portal/server.pt?open=512&amp;objID=431&amp;&amp;level=1&amp;css=L1&amp;mode=2&amp;in_hi_userid=2&amp;cached=true" TargetMode="External"/><Relationship Id="rId3" Type="http://schemas.openxmlformats.org/officeDocument/2006/relationships/hyperlink" Target="http://www.gettingtoone.org/" TargetMode="Externa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mailto:gerimiller@state.pa.us" TargetMode="External"/><Relationship Id="rId2" Type="http://schemas.openxmlformats.org/officeDocument/2006/relationships/hyperlink" Target="mailto:lburket@state.pa.us" TargetMode="External"/><Relationship Id="rId3" Type="http://schemas.openxmlformats.org/officeDocument/2006/relationships/hyperlink" Target="mailto:edvollbrec@state.pa.us" TargetMode="External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pde.state.pa.us/ab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ritewinningproposals.com/images/studying101.gif&amp;imgrefurl=http://www.writewinningproposals.com/grantwriting101.html&amp;h=180&amp;w=200&amp;sz=12&amp;hl=en&amp;start=9&amp;tbnid=_OUtugZVrgZ6DM:&amp;tbnh=94&amp;tbnw=104&amp;prev=/images%3Fq%3Dgrant%2Bwriting%26gbv%3D2%26svnum%3D10%26hl%3Den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cmedina@state.pa.us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ra-egrantshelp@state.pa.us" TargetMode="Externa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pde.state.pa.us/k12/cwp/view.asp?a=85&amp;q=112507&amp;pde_internetNav=%7C&amp;pp=12&amp;n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pde.state.pa.us/k12/cwp/view.asp?A=85&amp;Q=78592" TargetMode="Externa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teaching.state.pa.us/teaching/cwp/view.asp?a=11&amp;Q=102406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nt Writing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An 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r. Dale Ba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r. Louise Vitiel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4382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8" descr="http://tbn0.google.com/images?q=tbn:6P8ZsVIcz6lv-M:http://www.gallerytungsten.com/images/sunrise-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219320"/>
            <a:ext cx="1981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tting Started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#3: Selectio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cont’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 wri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roposal worth the time based o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stainability after the grant period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dds for funding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paration costs and timeline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ime needed to acquire any required signatures (e.g., Board resolution, proposed partners/collaborators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8" descr="http://tbn0.google.com/images?q=tbn:j8WJ7FeA1MqGYM:http://spyemporium.com/wireless_video_systems_covert/wireless_video_systems_covert_wall_clock_owc_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886280"/>
            <a:ext cx="1676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tting Sta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#3: Selectio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cont’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t of grant program reporting requirements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There are many grant opportunities to choose from so try not to waste time writing for a grant that is not right for you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8" descr="http://tbn0.google.com/images?q=tbn:j8WJ7FeA1MqGYM:http://spyemporium.com/wireless_video_systems_covert/wireless_video_systems_covert_wall_clock_owc_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886280"/>
            <a:ext cx="1676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ompetitive Edg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NT APPLICATION NOTICE (RFP) is primary tool for writing propos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the RFP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THOROUGH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an eye t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cant eligibility - who can appl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cation deadline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EVER miss a deadlin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ward amount per grant - will determine project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6" descr="C:\Program Files\Common Files\Microsoft Shared\Clipart\cagcat50\pe07677_.wmf"/>
          <p:cNvPicPr/>
          <p:nvPr/>
        </p:nvPicPr>
        <p:blipFill>
          <a:blip r:embed="rId1"/>
          <a:stretch/>
        </p:blipFill>
        <p:spPr>
          <a:xfrm>
            <a:off x="304920" y="464832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ompetitive 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the RFP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THOROUGH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cont’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many projects will be funded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posal format details (page length, spacing, and font) and standard forms required (signed institutional assurance, required/allowable attachments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bmission requirements (electronic or paper, # copies, delivery method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C:\Program Files\Common Files\Microsoft Shared\Clipart\cagcat50\pe07677_.wmf"/>
          <p:cNvPicPr/>
          <p:nvPr/>
        </p:nvPicPr>
        <p:blipFill>
          <a:blip r:embed="rId1"/>
          <a:stretch/>
        </p:blipFill>
        <p:spPr>
          <a:xfrm>
            <a:off x="304920" y="464832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ompetitive Edge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 the SELECTION CRITERIA!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y performance standards, measures and indica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quired by fun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possible, attend application workshop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n in doubt, call grant office!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the SELECTION CRITERIA as the outline for your proposal narrativ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ress all SELECTION CRITERIA clearly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5" descr="C:\Program Files\Common Files\Microsoft Shared\Clipart\cagcat50\pe07677_.wmf"/>
          <p:cNvPicPr/>
          <p:nvPr/>
        </p:nvPicPr>
        <p:blipFill>
          <a:blip r:embed="rId1"/>
          <a:stretch/>
        </p:blipFill>
        <p:spPr>
          <a:xfrm>
            <a:off x="304920" y="4952880"/>
            <a:ext cx="1409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ompetitive Edge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 a PLANNING / WRITING T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may include: grant writer, parent, principal, teacher, curriculum supervisor, counselor, board member, and/or business community membe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gree on a team leader &amp; time fra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ive assignments for portions of propos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oint someone to read for continuity and completen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152280" y="5460840"/>
          <a:ext cx="1752840" cy="11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460840"/>
                    <a:ext cx="175284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ompetitive Edge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ave TEAM identify/creat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needs related to attaining standards of excelle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blem(s) and related solution(s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searc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o support proposed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ntal model for the project with diagram flow char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152280" y="5259240"/>
          <a:ext cx="205740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259240"/>
                    <a:ext cx="205740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ompetitive Edge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ke connections to already-existing program planning efforts, such a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rriculum Committee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y Coordinator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-Based Improvement Team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 of grant funded program will depend on the school community’s buy-i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152280" y="5259240"/>
          <a:ext cx="205740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259240"/>
                    <a:ext cx="205740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ompetitive 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t Writing Process flow char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epa.go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Identify the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Research Available Gr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Match Grant and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Review Grant Guidelines and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Compile Grant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. Assemble the Finishing Tou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. Conduct Quality Review and Eval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. Package and Sub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. Follow Up After Award or Rej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C:\Program Files\Common Files\Microsoft Shared\Clipart\cagcat50\sy00451_.wmf"/>
          <p:cNvPicPr/>
          <p:nvPr/>
        </p:nvPicPr>
        <p:blipFill>
          <a:blip r:embed="rId2"/>
          <a:stretch/>
        </p:blipFill>
        <p:spPr>
          <a:xfrm>
            <a:off x="380880" y="5181480"/>
            <a:ext cx="113832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application selection crite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ant Program Statu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vice Eligi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ed for the Projec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of Project Desig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of Management Pl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of Project Personne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equacy of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of Project Evalu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dg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10" descr="http://tbn0.google.com/images?q=tbn:26nwS6jU8I9wuM:http://www.firstscience.com/home/images/legacygallery/anatomy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0200" y="2819520"/>
            <a:ext cx="2435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RT I: Grant Writing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tting Star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Competitive 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tomy of a Grant Propos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nt-Writing Task Contin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C:\Program Files\Common Files\Microsoft Shared\Clipart\cagcat50\pe01616_.wmf"/>
          <p:cNvPicPr/>
          <p:nvPr/>
        </p:nvPicPr>
        <p:blipFill>
          <a:blip r:embed="rId1"/>
          <a:stretch/>
        </p:blipFill>
        <p:spPr>
          <a:xfrm>
            <a:off x="6324480" y="4419720"/>
            <a:ext cx="1981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 selection criteria as head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dress each criterion specifically and thoroughl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7" descr="http://tbn0.google.com/images?q=tbn:fJgkuH74cmdXvM:http://www.amsara.amedd.army.mil/features/images/anatomy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3311640"/>
            <a:ext cx="32004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eed for the Projec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= foundation of your propos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cide which RESEARCH - facts or statistics - best support rationale for the projec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Local, State and National DATA to substantiate nee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ilize National and Regional census data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www.census.go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through the American Fact Finder for statistics on population, education, incom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5" descr="http://tbn0.google.com/images?q=tbn:VgMfujeFAk1_cM:http://greatinca.net/images/blog/Ankle_Anatom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4876920"/>
            <a:ext cx="14446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eed for the Project (cont’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minister attitudinal surveys to assess valuable perceptions data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students’ academic achievement levels using PSSA scores for all students and relevant sub-groups; grades; district measures, etc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ndicate level of services available at school and in communit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http://tbn0.google.com/images?q=tbn:VgMfujeFAk1_cM:http://greatinca.net/images/blog/Ankle_Anatom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876920"/>
            <a:ext cx="1523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eed for the Projec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cont’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 your proposed solutions to the problems identifi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 anticipated consequences of your proposed project as related to improving achievement, improving teaching, improving community activities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need statement should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MPEL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leave the read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ympathe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ward your problem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nvin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the need for this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4" descr="http://tbn0.google.com/images?q=tbn:VgMfujeFAk1_cM:http://greatinca.net/images/blog/Ankle_Anatom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4800600"/>
            <a:ext cx="15177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 Desig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 Project Goals and Objective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ress Stated Need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pecify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en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er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 Much?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5" descr="http://tbn0.google.com/images?q=tbn:ldWD73fikQrz0M:http://upload.wikimedia.org/wikibooks/en/3/30/Anatom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124080"/>
            <a:ext cx="2441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 Pla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kelihood of project success based on institutional and/or partners’ expertise/capacity to manage proje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6" descr="http://tbn0.google.com/images?q=tbn:4N8Sz2cx4kF0YM:http://mathiasbynens.be/images/anatomy-lectu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998720"/>
            <a:ext cx="28195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 Evalu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lear, measurable performance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Quantitative and qualitative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o collect/report data to funding ag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o report to local stake-holder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tive and summative assess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ment/reporting timelin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16" descr="http://tbn0.google.com/images?q=tbn:sLLEdJur-3IXHM:http://www.gov.ns.ca/ehs/medical_communications/images/comm_anatom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1865160"/>
            <a:ext cx="236196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7" name="Diagram 4"/>
          <p:cNvGrpSpPr/>
          <p:nvPr/>
        </p:nvGrpSpPr>
        <p:grpSpPr>
          <a:xfrm>
            <a:off x="1681560" y="3105720"/>
            <a:ext cx="5551200" cy="2636640"/>
            <a:chOff x="1681560" y="3105720"/>
            <a:chExt cx="5551200" cy="2636640"/>
          </a:xfrm>
        </p:grpSpPr>
        <p:sp>
          <p:nvSpPr>
            <p:cNvPr id="188" name="_s10244"/>
            <p:cNvSpPr/>
            <p:nvPr/>
          </p:nvSpPr>
          <p:spPr>
            <a:xfrm flipH="1">
              <a:off x="3123360" y="4929840"/>
              <a:ext cx="664560" cy="20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_s10245"/>
            <p:cNvSpPr/>
            <p:nvPr/>
          </p:nvSpPr>
          <p:spPr>
            <a:xfrm>
              <a:off x="1681560" y="4930920"/>
              <a:ext cx="1542960" cy="811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_s10246"/>
            <p:cNvSpPr/>
            <p:nvPr/>
          </p:nvSpPr>
          <p:spPr>
            <a:xfrm>
              <a:off x="5124960" y="4930920"/>
              <a:ext cx="666720" cy="2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10247"/>
            <p:cNvSpPr/>
            <p:nvPr/>
          </p:nvSpPr>
          <p:spPr>
            <a:xfrm>
              <a:off x="5689800" y="4929840"/>
              <a:ext cx="1542960" cy="811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ENCHMARK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_s10248"/>
            <p:cNvSpPr/>
            <p:nvPr/>
          </p:nvSpPr>
          <p:spPr>
            <a:xfrm flipV="1">
              <a:off x="4457520" y="3916440"/>
              <a:ext cx="0" cy="40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10249"/>
            <p:cNvSpPr/>
            <p:nvPr/>
          </p:nvSpPr>
          <p:spPr>
            <a:xfrm>
              <a:off x="3686040" y="3105720"/>
              <a:ext cx="1542600" cy="811080"/>
            </a:xfrm>
            <a:prstGeom prst="ellipse">
              <a:avLst/>
            </a:prstGeom>
            <a:solidFill>
              <a:srgbClr val="00e4a8">
                <a:alpha val="97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ALIST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10250"/>
            <p:cNvSpPr/>
            <p:nvPr/>
          </p:nvSpPr>
          <p:spPr>
            <a:xfrm>
              <a:off x="3686040" y="4322520"/>
              <a:ext cx="1542600" cy="811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ASUREAB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Rectangle 13"/>
          <p:cNvSpPr/>
          <p:nvPr/>
        </p:nvSpPr>
        <p:spPr>
          <a:xfrm>
            <a:off x="2307240" y="2057400"/>
            <a:ext cx="43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 Evalu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dg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equate to support proposed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asonable co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TE: All costs must be tied to project objectives and activities that are all described in application narrativ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7" descr="C:\Program Files\Common Files\Microsoft Shared\Clipart\cagcat50\bs00508_.wmf"/>
          <p:cNvPicPr/>
          <p:nvPr/>
        </p:nvPicPr>
        <p:blipFill>
          <a:blip r:embed="rId1"/>
          <a:stretch/>
        </p:blipFill>
        <p:spPr>
          <a:xfrm>
            <a:off x="304920" y="4572000"/>
            <a:ext cx="193500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rant Task Continuity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will grant-writing tasks be picked up when someone leaves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Approach to grant proposal develop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ear project management pl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buy-in by school administrators and other stakehol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Picture 4" descr="MMj02832140000[1]"/>
          <p:cNvPicPr/>
          <p:nvPr/>
        </p:nvPicPr>
        <p:blipFill>
          <a:blip r:embed="rId1"/>
          <a:stretch/>
        </p:blipFill>
        <p:spPr>
          <a:xfrm>
            <a:off x="304920" y="5110200"/>
            <a:ext cx="15238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PART II: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Grants Available to Distri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n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st Practices / Innovative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al Develop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DE Grants Web-Si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.S. Department of Education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Object 7" descr=""/>
          <p:cNvPicPr/>
          <p:nvPr/>
        </p:nvPicPr>
        <p:blipFill>
          <a:blip r:embed="rId1"/>
          <a:stretch/>
        </p:blipFill>
        <p:spPr>
          <a:xfrm flipH="1">
            <a:off x="228240" y="4800600"/>
            <a:ext cx="1415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3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Tahoma"/>
              </a:rPr>
              <a:t>PART II</a:t>
            </a:r>
            <a:endParaRPr b="0" lang="en-US" sz="4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Grants Available to Distri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Object 4" descr=""/>
          <p:cNvPicPr/>
          <p:nvPr/>
        </p:nvPicPr>
        <p:blipFill>
          <a:blip r:embed="rId1"/>
          <a:stretch/>
        </p:blipFill>
        <p:spPr>
          <a:xfrm flipH="1">
            <a:off x="2514240" y="2819520"/>
            <a:ext cx="2894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Wellness Gr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NA Mini-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nnsylvania Advocacy for Nutrition and Activity recognizes and rewards schools for making a commitment to improve nutrition and physical activity. Provides resources, templates, trainings, and mini-grant funding for schools to make healthy changes.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http://www.panaonline.org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27" descr="C:\Program Files\Common Files\Microsoft Shared\Clipart\cagcat50\bd08911_.wmf"/>
          <p:cNvPicPr/>
          <p:nvPr/>
        </p:nvPicPr>
        <p:blipFill>
          <a:blip r:embed="rId2"/>
          <a:stretch/>
        </p:blipFill>
        <p:spPr>
          <a:xfrm>
            <a:off x="228600" y="5049720"/>
            <a:ext cx="167652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Wellness Gr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D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od &amp; Nutrition Gr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school Snack Program; Child and Adult Care Food Program; Fresh Fruit and Vegetable Program; National School Lunch Program; School Breakfast Program; Special Milk Program; Summer Food Service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Unicode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UnicodeMS"/>
              </a:rPr>
              <a:t>Contact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nda Fekete</a:t>
            </a:r>
            <a:r>
              <a:rPr b="0" lang="en-US" sz="2400" spc="-1" strike="noStrike">
                <a:solidFill>
                  <a:srgbClr val="060165"/>
                </a:solidFill>
                <a:latin typeface="Tahoma"/>
                <a:ea typeface="ArialUnicode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-800-331-0129, Ext. 33538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vfekete@state.pa.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UnicodeMS"/>
              </a:rPr>
              <a:t>See: </a:t>
            </a:r>
            <a:r>
              <a:rPr b="0" lang="en-US" sz="2400" spc="-1" strike="noStrike">
                <a:solidFill>
                  <a:srgbClr val="ffcd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http://www.pde.state.pa.us/food_nutrition/site/default.a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7" descr="C:\Program Files\Common Files\Microsoft Shared\Clipart\cagcat50\bd08911_.wmf"/>
          <p:cNvPicPr/>
          <p:nvPr/>
        </p:nvPicPr>
        <p:blipFill>
          <a:blip r:embed="rId3"/>
          <a:stretch/>
        </p:blipFill>
        <p:spPr>
          <a:xfrm>
            <a:off x="228600" y="5049720"/>
            <a:ext cx="167652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echnology Gr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rooms for the Fu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ntegral part of the commonweal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Unicode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 high school reform agenda is designed to modernize teaching and learning through use of advanced technology. Contact: Holly Jobe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c-hjobe@state.pa.us</a:t>
            </a:r>
            <a:r>
              <a:rPr b="0" lang="en-US" sz="2800" spc="-1" strike="noStrike">
                <a:solidFill>
                  <a:srgbClr val="ffcd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by phone at (717) 214-939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http://www.edportal.ed.state.pa.us/portal/server.pt?open=512&amp;objID=475&amp;&amp;level=1&amp;css=L1&amp;mode=2&amp;in_hi_userid=2&amp;cached=tru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C:\Program Files\Common Files\Microsoft Shared\Clipart\cagcat50\bs00580_.wmf"/>
          <p:cNvPicPr/>
          <p:nvPr/>
        </p:nvPicPr>
        <p:blipFill>
          <a:blip r:embed="rId3"/>
          <a:stretch/>
        </p:blipFill>
        <p:spPr>
          <a:xfrm>
            <a:off x="152280" y="5168880"/>
            <a:ext cx="1752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echnology Gr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Department of Community &amp; Economic Develop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DCED programs apply to schools engaged in community education effor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information about specific programs, contact: 866-466-3972 or check the “funding &amp; program finder” 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http://www.newpa.com/default.aspx?id=1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Picture 5" descr="http://tbn0.google.com/images?q=tbn:aHj7hLpu4Q_LnM:http://americancivilwar.com/statepic/pa/pennsylvania_flag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5394240"/>
            <a:ext cx="160020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echnology Gr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-Fund School Grant Progra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Act 183 of 200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via the e-Grant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http://www.pde.state.pa.us/ed_tech/cwp/view.asp?Q=110337&amp;A=16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also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newpa.com/broad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ue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ctober 24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4" descr="C:\Program Files\Common Files\Microsoft Shared\Clipart\cagcat50\bs00580_.wmf"/>
          <p:cNvPicPr/>
          <p:nvPr/>
        </p:nvPicPr>
        <p:blipFill>
          <a:blip r:embed="rId3"/>
          <a:stretch/>
        </p:blipFill>
        <p:spPr>
          <a:xfrm>
            <a:off x="152280" y="5168880"/>
            <a:ext cx="1752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echnology Gr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E-Rat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unts for eligible schools and libraries for telecommunication services, Internet access, and internal connections. Contact Julie Tritt Schell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jtschell@comcast.n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d/or see the PA E-Rate website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http://www.e-ratepa.org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4" descr="C:\Program Files\Common Files\Microsoft Shared\Clipart\cagcat50\bs00580_.wmf"/>
          <p:cNvPicPr/>
          <p:nvPr/>
        </p:nvPicPr>
        <p:blipFill>
          <a:blip r:embed="rId3"/>
          <a:stretch/>
        </p:blipFill>
        <p:spPr>
          <a:xfrm>
            <a:off x="152280" y="5168880"/>
            <a:ext cx="1752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echnology 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y Pla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 required for most state/federal funding for technology. Se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-Tech Pl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http://www.etechplanner.org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Keystone Technology Integ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http://www.edportal.ed.state.pa.us/portal/server.pt?open=512&amp;objID=431&amp;&amp;level=1&amp;css=L1&amp;mode=2&amp;in_hi_userid=2&amp;cached=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ting to O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3"/>
              </a:rPr>
              <a:t>http://www.gettingtoone.org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C:\Program Files\Common Files\Microsoft Shared\Clipart\cagcat50\bs00580_.wmf"/>
          <p:cNvPicPr/>
          <p:nvPr/>
        </p:nvPicPr>
        <p:blipFill>
          <a:blip r:embed="rId4"/>
          <a:stretch/>
        </p:blipFill>
        <p:spPr>
          <a:xfrm>
            <a:off x="152280" y="5168880"/>
            <a:ext cx="1752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aching and Learning grants (on PDE e-Grant system)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l are closed to new applicants for the 2008-09 school ye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cience: It’s Elementar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UnicodeMS"/>
              </a:rPr>
              <a:t>Contact Geri Mille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UnicodeMS"/>
                <a:hlinkClick r:id="rId1"/>
              </a:rPr>
              <a:t>gerimiller@state.pa.us</a:t>
            </a:r>
            <a:r>
              <a:rPr b="0" lang="en-US" sz="2400" spc="-1" strike="noStrike">
                <a:solidFill>
                  <a:srgbClr val="ffcd00"/>
                </a:solidFill>
                <a:latin typeface="Tahoma"/>
                <a:ea typeface="ArialUnicode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UnicodeMS"/>
              </a:rPr>
              <a:t>(717) 783-674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llege and Career Counseling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Burke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lburket@state.pa.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717) 787-553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oject 720 – Pennsylvania’s High School Reform Initiat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ward Vollbrech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edvollbrec@state.pa.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717) 787-891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Picture 5" descr="C:\Program Files\Common Files\Microsoft Shared\Clipart\cagcat50\pe03166_.wmf"/>
          <p:cNvPicPr/>
          <p:nvPr/>
        </p:nvPicPr>
        <p:blipFill>
          <a:blip r:embed="rId4"/>
          <a:stretch/>
        </p:blipFill>
        <p:spPr>
          <a:xfrm>
            <a:off x="228600" y="5105520"/>
            <a:ext cx="14065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ability Block Grant (ABG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ds effective educational practices and initiatives to improve student achievem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in-depth implementation of improvement strategies and allows districts to select from a breadth of programs to meet the specific learning needs of their stud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de.state.pa.us/ab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Picture 6" descr="D:\My Documents\My Pictures\proposed logo 7 feb 2005 copy.jpg"/>
          <p:cNvPicPr/>
          <p:nvPr/>
        </p:nvPicPr>
        <p:blipFill>
          <a:blip r:embed="rId2"/>
          <a:stretch/>
        </p:blipFill>
        <p:spPr>
          <a:xfrm>
            <a:off x="228600" y="5715000"/>
            <a:ext cx="19843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ART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rant Writing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tting Sta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#1: Ref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#2: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#3: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http://tbn0.google.com/images?q=tbn:_OUtugZVrgZ6DM:http://www.writewinningproposals.com/images/studying10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3352680"/>
            <a:ext cx="332280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21st Century Community Learning Centers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ademic, artistic, cultural enrichment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road array of activities to complement regular academic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iteracy and other educational services to families of participating childr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rmen Medina,</a:t>
            </a:r>
            <a:r>
              <a:rPr b="0" lang="en-US" sz="2400" spc="-1" strike="noStrike">
                <a:solidFill>
                  <a:srgbClr val="060165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cmedina@state.pa.us</a:t>
            </a:r>
            <a:r>
              <a:rPr b="0" lang="en-US" sz="2400" spc="-1" strike="noStrike">
                <a:solidFill>
                  <a:srgbClr val="ffcd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reau of Community &amp; Student Servi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717) 783-646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4" descr="Color CCLC logo"/>
          <p:cNvPicPr/>
          <p:nvPr/>
        </p:nvPicPr>
        <p:blipFill>
          <a:blip r:embed="rId2"/>
          <a:stretch/>
        </p:blipFill>
        <p:spPr>
          <a:xfrm>
            <a:off x="152280" y="5029200"/>
            <a:ext cx="1455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-Grants System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s submission of grant applications &amp; reports via Interne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ult Basic &amp; Literacy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reer and Technical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ederal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Education/Early Interven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afe and Drug Free Sch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ll (717) 783-6686 or e-mai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ra-egrantshelp@state.pa.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Picture 4" descr="C:\Program Files\Common Files\Microsoft Shared\Clipart\cagcat50\bs00580_.wmf"/>
          <p:cNvPicPr/>
          <p:nvPr/>
        </p:nvPicPr>
        <p:blipFill>
          <a:blip r:embed="rId2"/>
          <a:stretch/>
        </p:blipFill>
        <p:spPr>
          <a:xfrm>
            <a:off x="152280" y="5168880"/>
            <a:ext cx="1752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DE Grants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DE presents information on various types of grants from across the agency by program are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 and federal grants available to the Commonwealth are also pres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ny program descriptions include hot-links to other important related areas of the PDE web s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http://www.pde.state.pa.us/k12/cwp/view.asp?a=85&amp;q=112507&amp;pde_internetNav=|&amp;pp=12&amp;n=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8" descr="D:\My Documents\My Pictures\proposed logo 7 feb 2005 copy.jpg"/>
          <p:cNvPicPr/>
          <p:nvPr/>
        </p:nvPicPr>
        <p:blipFill>
          <a:blip r:embed="rId2"/>
          <a:stretch/>
        </p:blipFill>
        <p:spPr>
          <a:xfrm>
            <a:off x="7010280" y="1828800"/>
            <a:ext cx="16002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DE Grants inclu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ult Basic &amp; Literacy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ess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reer and Technical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arter Sch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wealth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opout Prev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ducation Ment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Picture 5" descr="D:\My Documents\My Pictures\proposed logo 7 feb 2005 copy.jpg"/>
          <p:cNvPicPr/>
          <p:nvPr/>
        </p:nvPicPr>
        <p:blipFill>
          <a:blip r:embed="rId1"/>
          <a:stretch/>
        </p:blipFill>
        <p:spPr>
          <a:xfrm>
            <a:off x="6629400" y="1905120"/>
            <a:ext cx="19843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DE Grants inclu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ducational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ECT (Education Leading to Employment/Career Train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od and Nutr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alth, Safety, and Physical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meless Children and You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arn and Serve Amer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ederal Programs (Title I through Title 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grant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6" descr="D:\My Documents\My Pictures\proposed logo 7 feb 2005 copy.jpg"/>
          <p:cNvPicPr/>
          <p:nvPr/>
        </p:nvPicPr>
        <p:blipFill>
          <a:blip r:embed="rId1"/>
          <a:stretch/>
        </p:blipFill>
        <p:spPr>
          <a:xfrm>
            <a:off x="6629400" y="1905120"/>
            <a:ext cx="19843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DE Grants inclu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tsecondary/Higher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gnant and Parenting T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fugee Stud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gional Summer Schools of Excell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afe Sch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 Impr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Edu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6" descr="D:\My Documents\My Pictures\proposed logo 7 feb 2005 copy.jpg"/>
          <p:cNvPicPr/>
          <p:nvPr/>
        </p:nvPicPr>
        <p:blipFill>
          <a:blip r:embed="rId1"/>
          <a:stretch/>
        </p:blipFill>
        <p:spPr>
          <a:xfrm>
            <a:off x="6629400" y="1905120"/>
            <a:ext cx="19843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Education Related Grants and Funding Inform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site lists links to a wide range of grant opportunities for grants of all sizes and on many topics relating to educ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http://www.pde.state.pa.us/k12/cwp/view.asp?A=85&amp;Q=7859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4" descr="C:\Program Files\Common Files\Microsoft Shared\Clipart\cagcat50\bd06662_.wmf"/>
          <p:cNvPicPr/>
          <p:nvPr/>
        </p:nvPicPr>
        <p:blipFill>
          <a:blip r:embed="rId2"/>
          <a:stretch/>
        </p:blipFill>
        <p:spPr>
          <a:xfrm>
            <a:off x="228600" y="5105520"/>
            <a:ext cx="175248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Professional Develo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vernor's Institut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ries of summer professional education programs sponsored by P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 to insure creation of challenging learning environments in the Commonwealth’s public, private and non-public sch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act Becky McHugh (717-783-9260) or se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http://www.teaching.state.pa.us/teaching/cwp/view.asp?a=11&amp;Q=1024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5" descr="D:\My Documents\My Pictures\proposed logo 7 feb 2005 copy.jpg"/>
          <p:cNvPicPr/>
          <p:nvPr/>
        </p:nvPicPr>
        <p:blipFill>
          <a:blip r:embed="rId2"/>
          <a:stretch/>
        </p:blipFill>
        <p:spPr>
          <a:xfrm>
            <a:off x="228600" y="5715000"/>
            <a:ext cx="19843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U.S. Department of Edu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ecast of Funding Opportun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cent &amp; anticipated program compet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tual or estimated submission dead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form of charts organized according to the Department's principal program off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ed.gov/fund/grant/find/edlite-forecast.html 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8" name="Object 0"/>
          <p:cNvGraphicFramePr/>
          <p:nvPr/>
        </p:nvGraphicFramePr>
        <p:xfrm>
          <a:off x="152280" y="5029200"/>
          <a:ext cx="1636920" cy="16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029200"/>
                    <a:ext cx="163692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U.S. Department of Edu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ncipal Program Offic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glish Language Acquisition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ducation Scien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ary and Secondary Edu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afe and Drug Free Sch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novation and Improv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tsecondary Edu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Education and Rehabilitative Servi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ocational and Adult Edu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5" descr="http://tbn0.google.com/images?q=tbn:mLI96G4CpzNvaM:http://e-grants.ed.gov/gapsweb/images/edlogobg.gif"/>
          <p:cNvPicPr/>
          <p:nvPr/>
        </p:nvPicPr>
        <p:blipFill>
          <a:blip r:embed="rId1"/>
          <a:stretch/>
        </p:blipFill>
        <p:spPr>
          <a:xfrm>
            <a:off x="7010280" y="1905120"/>
            <a:ext cx="1600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tting Started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#1: Ref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does your school/district NEED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your STRATEGIC PRIORITI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arch for funding for solutions to your data-based needs/probl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8"/>
          <p:cNvGraphicFramePr/>
          <p:nvPr/>
        </p:nvGraphicFramePr>
        <p:xfrm>
          <a:off x="304920" y="4594320"/>
          <a:ext cx="1981080" cy="17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94320"/>
                    <a:ext cx="198108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ther 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Gra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has links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ant Opportunities, Grant Writing Tips and Links, News, Sample Successful Proposals, Links to other online resources. See: www.schoolgrants.org/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rough the Eyes of the Grant Revie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happens to your proposal after you submit it to the grantor? What kinds of simple things can you do that will help make your proposal more competitive? http://www.schoolgrants.org/newsletter2.ht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ther 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ne Secrets of Successful Propos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March/April 2000 edition of Foundation News and Commentary www.foundationnews.or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ant and Program Plan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lvie McGee/All For A Good Cause – 19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seanet.com/~sylvie/grants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rant Wri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by Melissa Ke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712educators.about.com/cs/grantwriting/a/grantwriting.htm?p=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rant Match Rubr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712educators.about.com/cs/rubrics/l/blrubricgrant.ht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You can do this!!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8" name="Picture 3" descr="http://jrblick.tripod.com/sitebuildercontent/sitebuilderpictures/sunrise.jpg"/>
          <p:cNvPicPr/>
          <p:nvPr/>
        </p:nvPicPr>
        <p:blipFill>
          <a:blip r:embed="rId1"/>
          <a:stretch/>
        </p:blipFill>
        <p:spPr>
          <a:xfrm>
            <a:off x="2362320" y="2209680"/>
            <a:ext cx="3886200" cy="29149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4"/>
          <p:cNvSpPr/>
          <p:nvPr/>
        </p:nvSpPr>
        <p:spPr>
          <a:xfrm>
            <a:off x="651240" y="5470560"/>
            <a:ext cx="712548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Tahoma"/>
              </a:rPr>
              <a:t>If you want to walk on water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you have to get out of the boat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. Dale Baker, Creative Educational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izing in Public, Charter &amp; Private Sch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ltation, Goal Setting, Strategic Plan Development, Board Retreats, Curriculum Update, Instructional Strategi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3 Longwood Drive, Mechanicsburg, PA 170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ne / Fax: 717-691-474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: dbaker27@verizon.n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creativeeducationalservice.c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 Louise Vitiell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t Wri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: 610-504-5238 (cell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mail:  LouiseV45@aol.c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tting Sta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#1: Reflectio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cont’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Never write a grant solely for funding purposes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grant is valuable only if it supports the mission and goals of your institu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 its best, grant writing is an extension of the strategic planning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28600" y="4662360"/>
          <a:ext cx="213372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662360"/>
                    <a:ext cx="213372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tting Started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#2: Resear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 a grant that addresses your need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oroughly analyze grant guidelines and requiremen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 su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urpose of the grant progr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consistent with your identified need(s), problem(s), and solutions(s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This is essential to development of a high quality grant propos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Object 5"/>
          <p:cNvGraphicFramePr/>
          <p:nvPr/>
        </p:nvGraphicFramePr>
        <p:xfrm>
          <a:off x="228600" y="4746600"/>
          <a:ext cx="1981080" cy="17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6600"/>
                    <a:ext cx="198108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tting Started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#3: Selectio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es the grant fit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ct/School Mission, Goals and Objective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ministration Prioritie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ing School Programs/Other Gra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Object 8"/>
          <p:cNvGraphicFramePr/>
          <p:nvPr/>
        </p:nvGraphicFramePr>
        <p:xfrm>
          <a:off x="304920" y="4670280"/>
          <a:ext cx="19810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670280"/>
                    <a:ext cx="19810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tting Sta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#3: Selection (cont’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es your program design have the support of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ministration/teachers/relevant personnel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rents/Students/Community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ct/School Infrastructure/Expertis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304920" y="4670280"/>
          <a:ext cx="19810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670280"/>
                    <a:ext cx="19810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4:29:04Z</dcterms:created>
  <dc:creator>lvitiello</dc:creator>
  <dc:description/>
  <dc:language>en-US</dc:language>
  <cp:lastModifiedBy>lvitiello</cp:lastModifiedBy>
  <dcterms:modified xsi:type="dcterms:W3CDTF">2008-06-09T20:55:26Z</dcterms:modified>
  <cp:revision>136</cp:revision>
  <dc:subject/>
  <dc:title>Grant Writing</dc:title>
</cp:coreProperties>
</file>